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E97D-A2F7-46F3-B4AE-39C2B454B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1AD8-F471-42CB-AFC8-DCFA1C4AE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4B6A-FADE-46DB-AC05-718C5ECA6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1EC4-9019-4237-AEC8-3CEF02271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32B23-EBF4-4A5B-A3AE-5A4B5BCEA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3FD7E-9B33-426B-BFFB-96A2F0509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CCC49-D5EB-4DD1-8188-4977F1956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93CB2-3D4D-431D-9491-BF10B479D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42C58-B2BE-4D92-931C-25B6D9F32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2A843-4844-4850-B2F3-991700AA7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56C31-F41B-4CBF-BB63-0C8A8ADC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A14A-3688-45AE-99FD-0CF902DFE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CE884-909A-4D4C-853F-97F133DB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8C25A-8AE9-4B9B-934C-0D4732B3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9C347-13D7-48C0-BECC-81655FC5A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1BA24-834C-4045-A8DF-B6E45D601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FF98C-027C-49D9-AA95-26156C1B2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3BFA-5898-4ECD-8C12-26ECBA929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49FB-B03B-4AEB-B349-888EF7C7E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43F0-6A79-4797-AF26-56CE93B76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DBDD-EEF5-4F54-8832-B3B0E48C6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4E85-68A5-40BF-AEE5-9A98BC15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7DF5-835C-4734-937D-EBA0ED34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A83F-11DA-478A-87E8-CC3D3D2F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080040"/>
            <a:ext cx="9144000" cy="777960"/>
            <a:chOff x="0" y="6080040"/>
            <a:chExt cx="9144000" cy="77796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6095880" y="6080040"/>
              <a:ext cx="3048120" cy="77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3"/>
            <a:stretch/>
          </p:blipFill>
          <p:spPr>
            <a:xfrm>
              <a:off x="3048120" y="6080040"/>
              <a:ext cx="3047760" cy="77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" descr=""/>
            <p:cNvPicPr/>
            <p:nvPr/>
          </p:nvPicPr>
          <p:blipFill>
            <a:blip r:embed="rId4"/>
            <a:stretch/>
          </p:blipFill>
          <p:spPr>
            <a:xfrm>
              <a:off x="0" y="6080040"/>
              <a:ext cx="3048120" cy="777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" name="" descr=""/>
          <p:cNvPicPr/>
          <p:nvPr/>
        </p:nvPicPr>
        <p:blipFill>
          <a:blip r:embed="rId5"/>
          <a:stretch/>
        </p:blipFill>
        <p:spPr>
          <a:xfrm>
            <a:off x="0" y="685800"/>
            <a:ext cx="1143000" cy="10429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336699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6699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336699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8C136-2666-437E-B6F4-AECD8EE5FFF9}" type="slidenum">
              <a:rPr b="0" lang="en-US" sz="1300" spc="-1" strike="noStrike">
                <a:solidFill>
                  <a:srgbClr val="336699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-54000" y="0"/>
            <a:ext cx="9220320" cy="797040"/>
            <a:chOff x="-54000" y="0"/>
            <a:chExt cx="9220320" cy="797040"/>
          </a:xfrm>
        </p:grpSpPr>
        <p:pic>
          <p:nvPicPr>
            <p:cNvPr id="9" name="" descr=""/>
            <p:cNvPicPr/>
            <p:nvPr/>
          </p:nvPicPr>
          <p:blipFill>
            <a:blip r:embed="rId6"/>
            <a:stretch/>
          </p:blipFill>
          <p:spPr>
            <a:xfrm>
              <a:off x="-54000" y="0"/>
              <a:ext cx="3124440" cy="7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" descr=""/>
            <p:cNvPicPr/>
            <p:nvPr/>
          </p:nvPicPr>
          <p:blipFill>
            <a:blip r:embed="rId7"/>
            <a:stretch/>
          </p:blipFill>
          <p:spPr>
            <a:xfrm>
              <a:off x="2994120" y="0"/>
              <a:ext cx="3124080" cy="7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" descr=""/>
            <p:cNvPicPr/>
            <p:nvPr/>
          </p:nvPicPr>
          <p:blipFill>
            <a:blip r:embed="rId8"/>
            <a:stretch/>
          </p:blipFill>
          <p:spPr>
            <a:xfrm>
              <a:off x="6042240" y="0"/>
              <a:ext cx="3124080" cy="79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41280d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993300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41280d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993300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41280d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41280d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6080040"/>
            <a:ext cx="9144000" cy="777960"/>
            <a:chOff x="0" y="6080040"/>
            <a:chExt cx="9144000" cy="777960"/>
          </a:xfrm>
        </p:grpSpPr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6095880" y="6080040"/>
              <a:ext cx="3048120" cy="77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3"/>
            <a:stretch/>
          </p:blipFill>
          <p:spPr>
            <a:xfrm>
              <a:off x="3048120" y="6080040"/>
              <a:ext cx="3047760" cy="77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4"/>
            <a:stretch/>
          </p:blipFill>
          <p:spPr>
            <a:xfrm>
              <a:off x="0" y="6080040"/>
              <a:ext cx="3048120" cy="777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152280" y="2286000"/>
            <a:ext cx="1219320" cy="11127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336699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6699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336699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86DD1-EA76-4BDB-A819-0925F4BCF3B4}" type="slidenum">
              <a:rPr b="0" lang="en-US" sz="1300" spc="-1" strike="noStrike">
                <a:solidFill>
                  <a:srgbClr val="336699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-31680" y="0"/>
            <a:ext cx="9219600" cy="797040"/>
            <a:chOff x="-31680" y="0"/>
            <a:chExt cx="9219600" cy="797040"/>
          </a:xfrm>
        </p:grpSpPr>
        <p:pic>
          <p:nvPicPr>
            <p:cNvPr id="59" name="" descr=""/>
            <p:cNvPicPr/>
            <p:nvPr/>
          </p:nvPicPr>
          <p:blipFill>
            <a:blip r:embed="rId6"/>
            <a:stretch/>
          </p:blipFill>
          <p:spPr>
            <a:xfrm>
              <a:off x="-31680" y="0"/>
              <a:ext cx="3124080" cy="7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7"/>
            <a:stretch/>
          </p:blipFill>
          <p:spPr>
            <a:xfrm>
              <a:off x="3016080" y="0"/>
              <a:ext cx="3123720" cy="7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8"/>
            <a:stretch/>
          </p:blipFill>
          <p:spPr>
            <a:xfrm>
              <a:off x="6064200" y="0"/>
              <a:ext cx="3123720" cy="79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PlaceHolder 4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1280d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jpeg"/><Relationship Id="rId3" Type="http://schemas.openxmlformats.org/officeDocument/2006/relationships/image" Target="../media/image7.jpeg"/><Relationship Id="rId4" Type="http://schemas.openxmlformats.org/officeDocument/2006/relationships/image" Target="../media/image9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057400" y="990720"/>
            <a:ext cx="420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47920" y="838080"/>
            <a:ext cx="670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1280d"/>
                </a:solidFill>
                <a:latin typeface="HGPGyoshotai"/>
              </a:rPr>
              <a:t>EL ARTE TAN BELLA</a:t>
            </a:r>
            <a:endParaRPr b="0" lang="en-US" sz="4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1752480"/>
            <a:ext cx="6933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1280d"/>
                </a:solidFill>
                <a:latin typeface="Tahoma"/>
              </a:rPr>
              <a:t>PARA EMPEZAR</a:t>
            </a:r>
            <a:r>
              <a:rPr b="0" lang="en-US" sz="2400" spc="-1" strike="noStrike">
                <a:solidFill>
                  <a:srgbClr val="41280d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1280d"/>
                </a:solidFill>
                <a:latin typeface="Tahoma"/>
              </a:rPr>
              <a:t>(usen las preguntas para ayudarles)</a:t>
            </a:r>
            <a:r>
              <a:rPr b="0" lang="en-US" sz="2400" spc="-1" strike="noStrike">
                <a:solidFill>
                  <a:srgbClr val="41280d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Tahoma"/>
              </a:rPr>
              <a:t>En parejas, hablen de sus opiniones del arte: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128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¿Te gusta el arte?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128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¿Tienes un artista favorito?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128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¿Haces la clase de arte?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128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¿Cuál prefieres, pintar o dibujar?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128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¿Vas al museo con tu familia a veces?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990720" y="1905120"/>
            <a:ext cx="2590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1280d"/>
                </a:solidFill>
                <a:latin typeface="Tahoma"/>
              </a:rPr>
              <a:t>¿Qué tipo de arte es?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14400" y="426708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Tahoma"/>
                <a:ea typeface="Arial"/>
              </a:rPr>
              <a:t>un mural</a:t>
            </a:r>
            <a:r>
              <a:rPr b="0" lang="en-US" sz="4000" spc="-1" strike="noStrike">
                <a:solidFill>
                  <a:srgbClr val="41280d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419720" y="914400"/>
            <a:ext cx="3703680" cy="49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486400" y="1143000"/>
            <a:ext cx="2438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1280d"/>
                </a:solidFill>
                <a:latin typeface="Tahoma"/>
              </a:rPr>
              <a:t>¿Qué tipo de arte es?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800600" y="373392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Tahoma"/>
                <a:ea typeface="Arial"/>
              </a:rPr>
              <a:t>una escultura</a:t>
            </a:r>
            <a:r>
              <a:rPr b="0" lang="en-US" sz="4000" spc="-1" strike="noStrike">
                <a:solidFill>
                  <a:srgbClr val="41280d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394992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80880" y="213372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1280d"/>
                </a:solidFill>
                <a:latin typeface="Tahoma"/>
              </a:rPr>
              <a:t>¿Qué tipo de arte es?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3886200"/>
            <a:ext cx="2362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Tahoma"/>
                <a:ea typeface="Arial"/>
              </a:rPr>
              <a:t>un dibujo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581280" y="1752480"/>
            <a:ext cx="506736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523880" y="914400"/>
            <a:ext cx="3443400" cy="46483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715000" y="1143000"/>
            <a:ext cx="2438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1280d"/>
                </a:solidFill>
                <a:latin typeface="Tahoma"/>
              </a:rPr>
              <a:t>¿Qué tipo de arte es?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57800" y="3429000"/>
            <a:ext cx="35053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Verdana"/>
              </a:rPr>
              <a:t>una pintura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Verdana"/>
              </a:rPr>
              <a:t>un cuadro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505320" y="1523880"/>
            <a:ext cx="23619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Arial"/>
                <a:ea typeface="Arial"/>
              </a:rPr>
              <a:t>una pintura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Arial"/>
                <a:ea typeface="Arial"/>
              </a:rPr>
              <a:t>un cuadr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Arial"/>
                <a:ea typeface="Arial"/>
              </a:rPr>
              <a:t>una escultura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Arial"/>
                <a:ea typeface="Arial"/>
              </a:rPr>
              <a:t>un mural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Arial"/>
                <a:ea typeface="Arial"/>
              </a:rPr>
              <a:t>un dibuj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Arial"/>
                <a:ea typeface="Arial"/>
              </a:rPr>
              <a:t>un monument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248520" y="4267080"/>
            <a:ext cx="2438280" cy="16257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248520" y="1752480"/>
            <a:ext cx="2209680" cy="17416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3886200" y="4800600"/>
            <a:ext cx="1676520" cy="12366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838080" y="1905120"/>
            <a:ext cx="2546640" cy="17524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838080" y="4038480"/>
            <a:ext cx="2330640" cy="19623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334120" y="3809880"/>
            <a:ext cx="457200" cy="1752840"/>
          </a:xfrm>
          <a:custGeom>
            <a:avLst/>
            <a:gdLst>
              <a:gd name="textAreaLeft" fmla="*/ 61200 w 457200"/>
              <a:gd name="textAreaRight" fmla="*/ 396000 w 457200"/>
              <a:gd name="textAreaTop" fmla="*/ 306720 h 1752840"/>
              <a:gd name="textAreaBottom" fmla="*/ 12708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3300"/>
          </a:solidFill>
          <a:ln w="9360">
            <a:solidFill>
              <a:srgbClr val="4128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19740000">
            <a:off x="3352320" y="3505320"/>
            <a:ext cx="381240" cy="907920"/>
          </a:xfrm>
          <a:prstGeom prst="upArrow">
            <a:avLst>
              <a:gd name="adj1" fmla="val 50000"/>
              <a:gd name="adj2" fmla="val 59537"/>
            </a:avLst>
          </a:prstGeom>
          <a:solidFill>
            <a:srgbClr val="000080"/>
          </a:solidFill>
          <a:ln w="9360">
            <a:solidFill>
              <a:srgbClr val="4128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62720" y="1447920"/>
            <a:ext cx="60948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00"/>
          </a:solidFill>
          <a:ln w="9360">
            <a:solidFill>
              <a:srgbClr val="4128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19500000">
            <a:off x="5738760" y="2976480"/>
            <a:ext cx="380880" cy="1409760"/>
          </a:xfrm>
          <a:prstGeom prst="downArrow">
            <a:avLst>
              <a:gd name="adj1" fmla="val 50000"/>
              <a:gd name="adj2" fmla="val 92533"/>
            </a:avLst>
          </a:prstGeom>
          <a:solidFill>
            <a:srgbClr val="ffcc66"/>
          </a:solidFill>
          <a:ln w="9360">
            <a:solidFill>
              <a:srgbClr val="4128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2400000">
            <a:off x="3479400" y="3419280"/>
            <a:ext cx="380880" cy="1447560"/>
          </a:xfrm>
          <a:prstGeom prst="downArrow">
            <a:avLst>
              <a:gd name="adj1" fmla="val 50000"/>
              <a:gd name="adj2" fmla="val 95014"/>
            </a:avLst>
          </a:prstGeom>
          <a:solidFill>
            <a:srgbClr val="ff9900"/>
          </a:solidFill>
          <a:ln w="9360">
            <a:solidFill>
              <a:srgbClr val="4128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3048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534520" y="4038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534520" y="2971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05320" y="4876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90720" y="76212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Tahoma"/>
              </a:rPr>
              <a:t>¿Qué tipo de arte es?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447920" y="838080"/>
            <a:ext cx="670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1280d"/>
                </a:solidFill>
                <a:latin typeface="HGPGyoshotai"/>
              </a:rPr>
              <a:t>EL ARTE TAN BELLA</a:t>
            </a:r>
            <a:endParaRPr b="0" lang="en-US" sz="4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8120" y="1600200"/>
            <a:ext cx="533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Tahoma"/>
              </a:rPr>
              <a:t>¿Qué tipo de arte es?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1762200" cy="2286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6019920" y="2590920"/>
            <a:ext cx="1904760" cy="14954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5334120" y="4267080"/>
            <a:ext cx="3352680" cy="17956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762120" y="4800600"/>
            <a:ext cx="1523880" cy="11095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3352680" y="2514600"/>
            <a:ext cx="1600200" cy="11034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3200400" y="4114800"/>
            <a:ext cx="1444680" cy="21337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04920" y="2666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819520" y="2590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5410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4120" y="2590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5410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5410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6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447920" y="838080"/>
            <a:ext cx="6705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1280d"/>
                </a:solidFill>
                <a:latin typeface="HGPGyoshotai"/>
              </a:rPr>
              <a:t>UNOS GENEROS DE ARTE</a:t>
            </a:r>
            <a:endParaRPr b="0" lang="en-US" sz="44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3348000" cy="43434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181480" y="304812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Verdana"/>
                <a:ea typeface="Arial"/>
              </a:rPr>
              <a:t>clásica</a:t>
            </a:r>
            <a:r>
              <a:rPr b="0" lang="en-US" sz="4000" spc="-1" strike="noStrike">
                <a:solidFill>
                  <a:srgbClr val="41280d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105520" y="22860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Verdana"/>
              </a:rPr>
              <a:t>una pintura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438280" y="121932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81080" y="510552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Verdana"/>
              </a:rPr>
              <a:t>un dibujo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0" y="510552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Verdana"/>
              </a:rPr>
              <a:t>realista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600200" y="914400"/>
            <a:ext cx="5638680" cy="38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5562720" y="914400"/>
            <a:ext cx="281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Verdana"/>
                <a:ea typeface="Arial"/>
              </a:rPr>
              <a:t>abstracta</a:t>
            </a:r>
            <a:r>
              <a:rPr b="0" lang="en-US" sz="4000" spc="-1" strike="noStrike">
                <a:solidFill>
                  <a:srgbClr val="41280d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91440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Verdana"/>
              </a:rPr>
              <a:t>una escultura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514600" y="1828800"/>
            <a:ext cx="502920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3614760" cy="41907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5334120" y="2438280"/>
            <a:ext cx="32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Verdana"/>
              </a:rPr>
              <a:t>una pintura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715000" y="304812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Verdana"/>
              </a:rPr>
              <a:t>cubista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447920" y="838080"/>
            <a:ext cx="670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1280d"/>
                </a:solidFill>
                <a:latin typeface="HGPGyoshotai"/>
              </a:rPr>
              <a:t>UNOS TIPOS DE ARTE</a:t>
            </a:r>
            <a:endParaRPr b="0" lang="en-US" sz="44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4775040" cy="3762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943600" y="2209680"/>
            <a:ext cx="281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Tahoma"/>
              </a:rPr>
              <a:t>una pintura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43600" y="3581280"/>
            <a:ext cx="251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Tahoma"/>
              </a:rPr>
              <a:t>un cuadro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52280" y="365760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Verdana"/>
                <a:ea typeface="Arial"/>
              </a:rPr>
              <a:t>surrealista</a:t>
            </a: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657600" y="1905120"/>
            <a:ext cx="5029200" cy="36604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04920" y="3048120"/>
            <a:ext cx="281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Verdana"/>
              </a:rPr>
              <a:t>un cuadro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523880" y="1219320"/>
            <a:ext cx="2921040" cy="4572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4800600" y="1905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Verdana"/>
              </a:rPr>
              <a:t>una escultura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05520" y="266688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Verdana"/>
              </a:rPr>
              <a:t>antigua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rcRect l="0" t="0" r="16673" b="0"/>
          <a:stretch/>
        </p:blipFill>
        <p:spPr>
          <a:xfrm>
            <a:off x="4572000" y="914400"/>
            <a:ext cx="2838600" cy="50292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228600" y="259092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Verdana"/>
              </a:rPr>
              <a:t>un monumento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327672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Verdana"/>
              </a:rPr>
              <a:t>moderno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447920" y="83808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Tahoma"/>
              </a:rPr>
              <a:t>¿De qué género es?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1905120"/>
            <a:ext cx="19814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clásic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realista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abstract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cubista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surrealista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antigu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modern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267080" y="1828800"/>
            <a:ext cx="3167280" cy="37591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 flipH="1" flipV="1">
            <a:off x="2819160" y="3276720"/>
            <a:ext cx="1600200" cy="457200"/>
          </a:xfrm>
          <a:prstGeom prst="line">
            <a:avLst/>
          </a:prstGeom>
          <a:ln w="9360">
            <a:solidFill>
              <a:srgbClr val="41280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2971800" y="3733920"/>
            <a:ext cx="1447920" cy="533160"/>
          </a:xfrm>
          <a:prstGeom prst="line">
            <a:avLst/>
          </a:prstGeom>
          <a:ln w="9360">
            <a:solidFill>
              <a:srgbClr val="41280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666520" y="3733920"/>
            <a:ext cx="1752840" cy="1523880"/>
          </a:xfrm>
          <a:prstGeom prst="line">
            <a:avLst/>
          </a:prstGeom>
          <a:ln w="9360">
            <a:solidFill>
              <a:srgbClr val="41280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609480" y="1905120"/>
            <a:ext cx="19814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clásic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realista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abstract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cubista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surrealista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antigu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modern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590920" y="2057400"/>
            <a:ext cx="6197400" cy="33195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flipH="1" flipV="1">
            <a:off x="1828440" y="2742840"/>
            <a:ext cx="762120" cy="609480"/>
          </a:xfrm>
          <a:prstGeom prst="line">
            <a:avLst/>
          </a:prstGeom>
          <a:ln w="9360">
            <a:solidFill>
              <a:srgbClr val="41280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133720" y="3352680"/>
            <a:ext cx="457200" cy="1981440"/>
          </a:xfrm>
          <a:prstGeom prst="line">
            <a:avLst/>
          </a:prstGeom>
          <a:ln w="9360">
            <a:solidFill>
              <a:srgbClr val="41280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447920" y="83808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Tahoma"/>
              </a:rPr>
              <a:t>¿De qué género es?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1828800"/>
            <a:ext cx="19810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clásic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realista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abstract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cubista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surrealista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antigu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moderno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809880" y="1752480"/>
            <a:ext cx="3544920" cy="403884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 flipH="1" flipV="1">
            <a:off x="2437920" y="2209320"/>
            <a:ext cx="1295640" cy="1295640"/>
          </a:xfrm>
          <a:prstGeom prst="line">
            <a:avLst/>
          </a:prstGeom>
          <a:ln w="9360">
            <a:solidFill>
              <a:srgbClr val="41280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437920" y="2666520"/>
            <a:ext cx="1295640" cy="838440"/>
          </a:xfrm>
          <a:prstGeom prst="line">
            <a:avLst/>
          </a:prstGeom>
          <a:ln w="9360">
            <a:solidFill>
              <a:srgbClr val="41280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590560" y="3505320"/>
            <a:ext cx="1143000" cy="1218960"/>
          </a:xfrm>
          <a:prstGeom prst="line">
            <a:avLst/>
          </a:prstGeom>
          <a:ln w="9360">
            <a:solidFill>
              <a:srgbClr val="41280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447920" y="83808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Tahoma"/>
              </a:rPr>
              <a:t>¿De qué género es?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447920" y="83808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¿Qué tipo de arte es?  ¿De qué género es?  ¿Cómo es?  ¿Qué colores ves en la obra?  ¿Qué opinas de esta obra </a:t>
            </a:r>
            <a:r>
              <a:rPr b="0" i="1" lang="en-US" sz="2400" spc="-1" strike="noStrike">
                <a:solidFill>
                  <a:srgbClr val="41280d"/>
                </a:solidFill>
                <a:latin typeface="Verdana"/>
              </a:rPr>
              <a:t>(work)</a:t>
            </a:r>
            <a:r>
              <a:rPr b="0" lang="en-US" sz="2400" spc="-1" strike="noStrike">
                <a:solidFill>
                  <a:srgbClr val="41280d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85800" y="2438280"/>
            <a:ext cx="7696080" cy="34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289548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Tahoma"/>
                <a:ea typeface="Arial"/>
              </a:rPr>
              <a:t>un mural</a:t>
            </a:r>
            <a:r>
              <a:rPr b="0" lang="en-US" sz="4000" spc="-1" strike="noStrike">
                <a:solidFill>
                  <a:srgbClr val="41280d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819520" y="838080"/>
            <a:ext cx="5943600" cy="50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72200" y="3429000"/>
            <a:ext cx="2362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Tahoma"/>
                <a:ea typeface="Arial"/>
              </a:rPr>
              <a:t>un dibujo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502920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819520" y="91440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Tahoma"/>
                <a:ea typeface="Arial"/>
              </a:rPr>
              <a:t>una escultura</a:t>
            </a:r>
            <a:r>
              <a:rPr b="0" lang="en-US" sz="4000" spc="-1" strike="noStrike">
                <a:solidFill>
                  <a:srgbClr val="41280d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981080" y="2133720"/>
            <a:ext cx="542628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819520" y="5257800"/>
            <a:ext cx="419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Tahoma"/>
                <a:ea typeface="Arial"/>
              </a:rPr>
              <a:t>un monumento</a:t>
            </a:r>
            <a:r>
              <a:rPr b="0" lang="en-US" sz="4000" spc="-1" strike="noStrike">
                <a:solidFill>
                  <a:srgbClr val="41280d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981080" y="838080"/>
            <a:ext cx="586764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867280" y="1066680"/>
            <a:ext cx="2438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1280d"/>
                </a:solidFill>
                <a:latin typeface="Tahoma"/>
              </a:rPr>
              <a:t>¿Qué tipo de arte es?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3352680"/>
            <a:ext cx="35049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Verdana"/>
              </a:rPr>
              <a:t>una pintura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Verdana"/>
              </a:rPr>
              <a:t>un cuadro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35989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71600" y="914400"/>
            <a:ext cx="281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1280d"/>
                </a:solidFill>
                <a:latin typeface="Tahoma"/>
              </a:rPr>
              <a:t>¿Qué tipo de arte es?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19720" y="1219320"/>
            <a:ext cx="419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Tahoma"/>
                <a:ea typeface="Arial"/>
              </a:rPr>
              <a:t>un monumento</a:t>
            </a:r>
            <a:r>
              <a:rPr b="0" lang="en-US" sz="4000" spc="-1" strike="noStrike">
                <a:solidFill>
                  <a:srgbClr val="41280d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981080" y="2590920"/>
            <a:ext cx="56930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47920" y="1066680"/>
            <a:ext cx="4012920" cy="4572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019920" y="1219320"/>
            <a:ext cx="2438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1280d"/>
                </a:solidFill>
                <a:latin typeface="Tahoma"/>
              </a:rPr>
              <a:t>¿Qué tipo de arte es?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3809880"/>
            <a:ext cx="35053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Verdana"/>
              </a:rPr>
              <a:t>una pintura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280d"/>
                </a:solidFill>
                <a:latin typeface="Verdana"/>
              </a:rPr>
              <a:t>un cuadro</a:t>
            </a:r>
            <a:endParaRPr b="0" lang="en-US" sz="4000" spc="-1" strike="noStrike">
              <a:solidFill>
                <a:srgbClr val="41280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12:33:39Z</dcterms:created>
  <dc:creator>Student</dc:creator>
  <dc:description/>
  <dc:language>en-US</dc:language>
  <cp:lastModifiedBy>mis</cp:lastModifiedBy>
  <dcterms:modified xsi:type="dcterms:W3CDTF">2008-02-19T18:57:17Z</dcterms:modified>
  <cp:revision>6</cp:revision>
  <dc:subject/>
  <dc:title>PowerPoint Presentation</dc:title>
</cp:coreProperties>
</file>